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B97-2634-46B1-BBD3-D1D5F1EF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148-DDF3-47FB-89E7-766D9EB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3BA-5511-48C2-85AC-6C9DB254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5E9-9B6F-4602-8267-0163692F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518-776E-4FA3-9E48-3E2BF182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5E6-671F-4F53-B668-3C1B589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28C-D27A-4D9A-BDE9-AE12844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96B-A37E-420C-9526-D794AEE9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397-5F68-43CA-9B51-379F5F0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9B1-8253-4183-BCF4-0928BB3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9E0-E10C-4CCF-AFE9-E4D0A91F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26F-B9B5-45D8-97F2-979DB9A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C9CF-2803-4C4E-80E3-A9AB2F6B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issenschaft3000.wordpres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3790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2799720"/>
            <a:ext cx="91440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Der Künstler braucht  ca. 4 St. um eine Hand zu bemal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Anschließend fotografiert er das Ergebnis für die Nachwelt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Die Tierbilder sind alle bemerkenswert naturgetreu!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An dem Bild (beidhändiger Adl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ccff"/>
                </a:solidFill>
                <a:latin typeface="Times New Roman"/>
              </a:rPr>
              <a:t>hat der Maler 10 Stunden garbeit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928800" y="6429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nd-Bemalung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TT0002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ATT00031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TT00034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TT000371212"/>
          <p:cNvPicPr/>
          <p:nvPr/>
        </p:nvPicPr>
        <p:blipFill>
          <a:blip r:embed="rId1"/>
          <a:stretch/>
        </p:blipFill>
        <p:spPr>
          <a:xfrm>
            <a:off x="234000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TT000401313"/>
          <p:cNvPicPr/>
          <p:nvPr/>
        </p:nvPicPr>
        <p:blipFill>
          <a:blip r:embed="rId1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TT000431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TT0004615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24900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ATT000491616"/>
          <p:cNvPicPr/>
          <p:nvPr/>
        </p:nvPicPr>
        <p:blipFill>
          <a:blip r:embed="rId1"/>
          <a:stretch/>
        </p:blipFill>
        <p:spPr>
          <a:xfrm>
            <a:off x="2340000" y="260280"/>
            <a:ext cx="4560840" cy="640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ATT0005217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TT0005518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TT0000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TT000581919"/>
          <p:cNvPicPr/>
          <p:nvPr/>
        </p:nvPicPr>
        <p:blipFill>
          <a:blip r:embed="rId1"/>
          <a:stretch/>
        </p:blipFill>
        <p:spPr>
          <a:xfrm>
            <a:off x="0" y="0"/>
            <a:ext cx="9178920" cy="70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2000" y="314172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141200">
            <a:off x="-106920" y="4220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issenschaft3000.wordpres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TT0000722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TT0001033"/>
          <p:cNvPicPr/>
          <p:nvPr/>
        </p:nvPicPr>
        <p:blipFill>
          <a:blip r:embed="rId1"/>
          <a:stretch/>
        </p:blipFill>
        <p:spPr>
          <a:xfrm>
            <a:off x="324000" y="428760"/>
            <a:ext cx="8496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TT0001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TT0001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TT00019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TT0002277"/>
          <p:cNvPicPr/>
          <p:nvPr/>
        </p:nvPicPr>
        <p:blipFill>
          <a:blip r:embed="rId1"/>
          <a:stretch/>
        </p:blipFill>
        <p:spPr>
          <a:xfrm>
            <a:off x="2286000" y="260280"/>
            <a:ext cx="453060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TT0002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9:18:03Z</dcterms:created>
  <dc:creator/>
  <dc:description/>
  <dc:language>en-US</dc:language>
  <cp:lastModifiedBy>MADA</cp:lastModifiedBy>
  <dcterms:modified xsi:type="dcterms:W3CDTF">2012-07-27T03:36:40Z</dcterms:modified>
  <cp:revision>10</cp:revision>
  <dc:subject/>
  <dc:title>Slide 1</dc:title>
</cp:coreProperties>
</file>