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AD1-77C0-4010-A3B8-D81AA987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B57-0D56-482D-BA8F-6B4D48D1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F7D-3819-4ED2-A46B-479726D9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578-036A-4043-8E46-91F3080D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3F1-E757-4E8F-9A32-4F235831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CE9-768C-4D97-9A1C-8D5B8C1F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EC1-F369-4AE8-BC8F-296C0A94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6625-7B51-4CE9-819E-F3C0EBA6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45F-4CE4-4FF9-B6B0-A2CB2241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280-15AC-4377-94C6-5F5746FC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E538-6D88-4100-8D2D-CD604CF0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ED9-6F2C-49FD-BF43-F71990CA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4467-4361-4068-AA58-D457725B6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issenschaft3000.wordpress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37908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2799720"/>
            <a:ext cx="9144000" cy="28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ccff"/>
                </a:solidFill>
                <a:latin typeface="Times New Roman"/>
              </a:rPr>
              <a:t>Der Künstler braucht  ca. 4 St. um eine Hand zu bemal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ccff"/>
                </a:solidFill>
                <a:latin typeface="Times New Roman"/>
              </a:rPr>
              <a:t>Anschließend fotografiert er das Ergebnis für die Nachwelt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ccff"/>
                </a:solidFill>
                <a:latin typeface="Times New Roman"/>
              </a:rPr>
              <a:t>Die Tierbilder sind alle bemerkenswert naturgetreu!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2400" spc="-1" strike="noStrike">
                <a:solidFill>
                  <a:srgbClr val="ccccff"/>
                </a:solidFill>
                <a:latin typeface="Times New Roman"/>
              </a:rPr>
              <a:t>An dem Bild (beidhändiger Adle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ccff"/>
                </a:solidFill>
                <a:latin typeface="Times New Roman"/>
              </a:rPr>
              <a:t>hat der Maler 10 Stunden garbeite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13"/>
          <p:cNvSpPr txBox="1"/>
          <p:nvPr/>
        </p:nvSpPr>
        <p:spPr>
          <a:xfrm>
            <a:off x="928800" y="642960"/>
            <a:ext cx="7272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and-Bemalungen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ATT00028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ATT000311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ATT00034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5e18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ATT000371212"/>
          <p:cNvPicPr/>
          <p:nvPr/>
        </p:nvPicPr>
        <p:blipFill>
          <a:blip r:embed="rId1"/>
          <a:stretch/>
        </p:blipFill>
        <p:spPr>
          <a:xfrm>
            <a:off x="2340000" y="0"/>
            <a:ext cx="47084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ATT000401313"/>
          <p:cNvPicPr/>
          <p:nvPr/>
        </p:nvPicPr>
        <p:blipFill>
          <a:blip r:embed="rId1"/>
          <a:stretch/>
        </p:blipFill>
        <p:spPr>
          <a:xfrm>
            <a:off x="0" y="0"/>
            <a:ext cx="9144000" cy="671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ATT0004314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ATT0004615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50000">
              <a:srgbClr val="924900"/>
            </a:gs>
            <a:gs pos="100000">
              <a:srgbClr val="cc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ATT000491616"/>
          <p:cNvPicPr/>
          <p:nvPr/>
        </p:nvPicPr>
        <p:blipFill>
          <a:blip r:embed="rId1"/>
          <a:stretch/>
        </p:blipFill>
        <p:spPr>
          <a:xfrm>
            <a:off x="2340000" y="260280"/>
            <a:ext cx="4560840" cy="640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ATT0005217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ATT0005518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TT00004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ATT000581919"/>
          <p:cNvPicPr/>
          <p:nvPr/>
        </p:nvPicPr>
        <p:blipFill>
          <a:blip r:embed="rId1"/>
          <a:stretch/>
        </p:blipFill>
        <p:spPr>
          <a:xfrm>
            <a:off x="0" y="0"/>
            <a:ext cx="9178920" cy="7029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32000" y="3141720"/>
            <a:ext cx="374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9141200">
            <a:off x="-106920" y="422064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issenschaft3000.wordpress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ATT0000722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ATT0001033"/>
          <p:cNvPicPr/>
          <p:nvPr/>
        </p:nvPicPr>
        <p:blipFill>
          <a:blip r:embed="rId1"/>
          <a:stretch/>
        </p:blipFill>
        <p:spPr>
          <a:xfrm>
            <a:off x="324000" y="428760"/>
            <a:ext cx="84960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ATT00013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TT00016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ATT00019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ATT0002277"/>
          <p:cNvPicPr/>
          <p:nvPr/>
        </p:nvPicPr>
        <p:blipFill>
          <a:blip r:embed="rId1"/>
          <a:stretch/>
        </p:blipFill>
        <p:spPr>
          <a:xfrm>
            <a:off x="2286000" y="260280"/>
            <a:ext cx="453060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ATT00025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9:18:03Z</dcterms:created>
  <dc:creator/>
  <dc:description/>
  <dc:language>en-US</dc:language>
  <cp:lastModifiedBy>MADA</cp:lastModifiedBy>
  <dcterms:modified xsi:type="dcterms:W3CDTF">2012-07-27T03:36:40Z</dcterms:modified>
  <cp:revision>10</cp:revision>
  <dc:subject/>
  <dc:title>Slide 1</dc:title>
</cp:coreProperties>
</file>